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26.wmf" ContentType="image/x-wmf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90.wmf" ContentType="image/x-wmf"/>
  <Override PartName="/ppt/media/image121.wmf" ContentType="image/x-wmf"/>
  <Override PartName="/ppt/media/image116.wmf" ContentType="image/x-wmf"/>
  <Override PartName="/ppt/media/image184.wmf" ContentType="image/x-wmf"/>
  <Override PartName="/ppt/media/image115.wmf" ContentType="image/x-wmf"/>
  <Override PartName="/ppt/media/image183.wmf" ContentType="image/x-wmf"/>
  <Override PartName="/ppt/media/image114.wmf" ContentType="image/x-wmf"/>
  <Override PartName="/ppt/media/image182.wmf" ContentType="image/x-wmf"/>
  <Override PartName="/ppt/media/image113.wmf" ContentType="image/x-wmf"/>
  <Override PartName="/ppt/media/image181.wmf" ContentType="image/x-wmf"/>
  <Override PartName="/ppt/media/image112.wmf" ContentType="image/x-wmf"/>
  <Override PartName="/ppt/media/image180.wmf" ContentType="image/x-wmf"/>
  <Override PartName="/ppt/media/image111.wmf" ContentType="image/x-wmf"/>
  <Override PartName="/ppt/media/image106.wmf" ContentType="image/x-wmf"/>
  <Override PartName="/ppt/media/image174.wmf" ContentType="image/x-wmf"/>
  <Override PartName="/ppt/media/image105.wmf" ContentType="image/x-wmf"/>
  <Override PartName="/ppt/media/image173.wmf" ContentType="image/x-wmf"/>
  <Override PartName="/ppt/media/image104.wmf" ContentType="image/x-wmf"/>
  <Override PartName="/ppt/media/image172.wmf" ContentType="image/x-wmf"/>
  <Override PartName="/ppt/media/image103.wmf" ContentType="image/x-wmf"/>
  <Override PartName="/ppt/media/image171.wmf" ContentType="image/x-wmf"/>
  <Override PartName="/ppt/media/image102.wmf" ContentType="image/x-wmf"/>
  <Override PartName="/ppt/media/image170.wmf" ContentType="image/x-wmf"/>
  <Override PartName="/ppt/media/image101.wmf" ContentType="image/x-wmf"/>
  <Override PartName="/ppt/media/image99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9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70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62.wmf" ContentType="image/x-wmf"/>
  <Override PartName="/ppt/media/image61.wmf" ContentType="image/x-wmf"/>
  <Override PartName="/ppt/media/image60.wmf" ContentType="image/x-wmf"/>
  <Override PartName="/ppt/media/image38.wmf" ContentType="image/x-wmf"/>
  <Override PartName="/ppt/media/image127.wmf" ContentType="image/x-wmf"/>
  <Override PartName="/ppt/media/image1.wmf" ContentType="image/x-wmf"/>
  <Override PartName="/ppt/media/image153.wmf" ContentType="image/x-wmf"/>
  <Override PartName="/ppt/media/image39.wmf" ContentType="image/x-wmf"/>
  <Override PartName="/ppt/media/image50.wmf" ContentType="image/x-wmf"/>
  <Override PartName="/ppt/media/image147.wmf" ContentType="image/x-wmf"/>
  <Override PartName="/ppt/media/image51.wmf" ContentType="image/x-wmf"/>
  <Override PartName="/ppt/media/image148.wmf" ContentType="image/x-wmf"/>
  <Override PartName="/ppt/media/image52.wmf" ContentType="image/x-wmf"/>
  <Override PartName="/ppt/media/image149.wmf" ContentType="image/x-wmf"/>
  <Override PartName="/ppt/media/image53.wmf" ContentType="image/x-wmf"/>
  <Override PartName="/ppt/media/image128.wmf" ContentType="image/x-wmf"/>
  <Override PartName="/ppt/media/image129.wmf" ContentType="image/x-wmf"/>
  <Override PartName="/ppt/media/image32.wmf" ContentType="image/x-wmf"/>
  <Override PartName="/ppt/media/image133.wmf" ContentType="image/x-wmf"/>
  <Override PartName="/ppt/media/image134.wmf" ContentType="image/x-wmf"/>
  <Override PartName="/ppt/media/image135.wmf" ContentType="image/x-wmf"/>
  <Override PartName="/ppt/media/image136.wmf" ContentType="image/x-wmf"/>
  <Override PartName="/ppt/media/image137.wmf" ContentType="image/x-wmf"/>
  <Override PartName="/ppt/media/image40.wmf" ContentType="image/x-wmf"/>
  <Override PartName="/ppt/media/image161.wmf" ContentType="image/x-wmf"/>
  <Override PartName="/ppt/media/image162.wmf" ContentType="image/x-wmf"/>
  <Override PartName="/ppt/media/image163.wmf" ContentType="image/x-wmf"/>
  <Override PartName="/ppt/media/image45.wmf" ContentType="image/x-wmf"/>
  <Override PartName="/ppt/media/image131.wmf" ContentType="image/x-wmf"/>
  <Override PartName="/ppt/media/image168.wmf" ContentType="image/x-wmf"/>
  <Override PartName="/ppt/media/image46.wmf" ContentType="image/x-wmf"/>
  <Override PartName="/ppt/media/image132.wmf" ContentType="image/x-wmf"/>
  <Override PartName="/ppt/media/image169.wmf" ContentType="image/x-wmf"/>
  <Override PartName="/ppt/media/image43.wmf" ContentType="image/x-wmf"/>
  <Override PartName="/ppt/media/image166.wmf" ContentType="image/x-wmf"/>
  <Override PartName="/ppt/media/image143.wmf" ContentType="image/x-wmf"/>
  <Override PartName="/ppt/media/image44.wmf" ContentType="image/x-wmf"/>
  <Override PartName="/ppt/media/image130.wmf" ContentType="image/x-wmf"/>
  <Override PartName="/ppt/media/image167.wmf" ContentType="image/x-wmf"/>
  <Override PartName="/ppt/media/image144.wmf" ContentType="image/x-wmf"/>
  <Override PartName="/ppt/media/image41.wmf" ContentType="image/x-wmf"/>
  <Override PartName="/ppt/media/image138.wmf" ContentType="image/x-wmf"/>
  <Override PartName="/ppt/media/image164.wmf" ContentType="image/x-wmf"/>
  <Override PartName="/ppt/media/image42.wmf" ContentType="image/x-wmf"/>
  <Override PartName="/ppt/media/image139.wmf" ContentType="image/x-wmf"/>
  <Override PartName="/ppt/media/image165.wmf" ContentType="image/x-wmf"/>
  <Override PartName="/ppt/media/image160.wmf" ContentType="image/x-wmf"/>
  <Override PartName="/ppt/media/image189.wmf" ContentType="image/x-wmf"/>
  <Override PartName="/ppt/media/image152.wmf" ContentType="image/x-wmf"/>
  <Override PartName="/ppt/media/image188.wmf" ContentType="image/x-wmf"/>
  <Override PartName="/ppt/media/image23.wmf" ContentType="image/x-wmf"/>
  <Override PartName="/ppt/media/image91.wmf" ContentType="image/x-wmf"/>
  <Override PartName="/ppt/media/image151.wmf" ContentType="image/x-wmf"/>
  <Override PartName="/ppt/media/image150.wmf" ContentType="image/x-wmf"/>
  <Override PartName="/ppt/media/image146.wmf" ContentType="image/x-wmf"/>
  <Override PartName="/ppt/media/image145.wmf" ContentType="image/x-wmf"/>
  <Override PartName="/ppt/media/image56.wmf" ContentType="image/x-wmf"/>
  <Override PartName="/ppt/media/image179.wmf" ContentType="image/x-wmf"/>
  <Override PartName="/ppt/media/image142.wmf" ContentType="image/x-wmf"/>
  <Override PartName="/ppt/media/image55.wmf" ContentType="image/x-wmf"/>
  <Override PartName="/ppt/media/image178.wmf" ContentType="image/x-wmf"/>
  <Override PartName="/ppt/media/image13.wmf" ContentType="image/x-wmf"/>
  <Override PartName="/ppt/media/image81.wmf" ContentType="image/x-wmf"/>
  <Override PartName="/ppt/media/image141.wmf" ContentType="image/x-wmf"/>
  <Override PartName="/ppt/media/image54.wmf" ContentType="image/x-wmf"/>
  <Override PartName="/ppt/media/image140.wmf" ContentType="image/x-wmf"/>
  <Override PartName="/ppt/media/image30.wmf" ContentType="image/x-wmf"/>
  <Override PartName="/ppt/media/image8.wmf" ContentType="image/x-wmf"/>
  <Override PartName="/ppt/media/image17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77.wmf" ContentType="image/x-wmf"/>
  <Override PartName="/ppt/media/image109.wmf" ContentType="image/x-wmf"/>
  <Override PartName="/ppt/media/image80.wmf" ContentType="image/x-wmf"/>
  <Override PartName="/ppt/media/image12.wmf" ContentType="image/x-wmf"/>
  <Override PartName="/ppt/media/image37.wmf" ContentType="image/x-wmf"/>
  <Override PartName="/ppt/media/image159.wmf" ContentType="image/x-wmf"/>
  <Override PartName="/ppt/media/image7.wmf" ContentType="image/x-wmf"/>
  <Override PartName="/ppt/media/image16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176.wmf" ContentType="image/x-wmf"/>
  <Override PartName="/ppt/media/image82.wmf" ContentType="image/x-wmf"/>
  <Override PartName="/ppt/media/image14.wmf" ContentType="image/x-wmf"/>
  <Override PartName="/ppt/media/image36.wmf" ContentType="image/x-wmf"/>
  <Override PartName="/ppt/media/image158.wmf" ContentType="image/x-wmf"/>
  <Override PartName="/ppt/media/image6.wmf" ContentType="image/x-wmf"/>
  <Override PartName="/ppt/media/image15.wmf" ContentType="image/x-wmf"/>
  <Override PartName="/ppt/media/image83.wmf" ContentType="image/x-wmf"/>
  <Override PartName="/ppt/media/image18.wmf" ContentType="image/x-wmf"/>
  <Override PartName="/ppt/media/image86.wmf" ContentType="image/x-wmf"/>
  <Override PartName="/ppt/media/image31.wmf" ContentType="image/x-wmf"/>
  <Override PartName="/ppt/media/image9.wmf" ContentType="image/x-wmf"/>
  <Override PartName="/ppt/media/image47.wmf" ContentType="image/x-wmf"/>
  <Override PartName="/ppt/media/image10.wmf" ContentType="image/x-wmf"/>
  <Override PartName="/ppt/media/image175.wmf" ContentType="image/x-wmf"/>
  <Override PartName="/ppt/media/image107.wmf" ContentType="image/x-wmf"/>
  <Override PartName="/ppt/media/image35.wmf" ContentType="image/x-wmf"/>
  <Override PartName="/ppt/media/image5.wmf" ContentType="image/x-wmf"/>
  <Override PartName="/ppt/media/image157.wmf" ContentType="image/x-wmf"/>
  <Override PartName="/ppt/media/image34.wmf" ContentType="image/x-wmf"/>
  <Override PartName="/ppt/media/image4.wmf" ContentType="image/x-wmf"/>
  <Override PartName="/ppt/media/image156.wmf" ContentType="image/x-wmf"/>
  <Override PartName="/ppt/media/image33.wmf" ContentType="image/x-wmf"/>
  <Override PartName="/ppt/media/image3.wmf" ContentType="image/x-wmf"/>
  <Override PartName="/ppt/media/image155.wmf" ContentType="image/x-wmf"/>
  <Override PartName="/ppt/media/image26.wmf" ContentType="image/x-wmf"/>
  <Override PartName="/ppt/media/image94.wmf" ContentType="image/x-wmf"/>
  <Override PartName="/ppt/media/image2.wmf" ContentType="image/x-wmf"/>
  <Override PartName="/ppt/media/image154.wmf" ContentType="image/x-wmf"/>
  <Override PartName="/ppt/media/image93.wmf" ContentType="image/x-wmf"/>
  <Override PartName="/ppt/media/image25.wmf" ContentType="image/x-wmf"/>
  <Override PartName="/ppt/media/image92.wmf" ContentType="image/x-wmf"/>
  <Override PartName="/ppt/media/image24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185.wmf" ContentType="image/x-wmf"/>
  <Override PartName="/ppt/media/image58.wmf" ContentType="image/x-wmf"/>
  <Override PartName="/ppt/media/image21.wmf" ContentType="image/x-wmf"/>
  <Override PartName="/ppt/media/image186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187.wmf" ContentType="image/x-wmf"/>
  <Override PartName="/ppt/media/image11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3A41-7BFB-4C9B-A923-A9F35C6ED78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s mathematisch einfacher zu handhaben als bei B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se restr. Werden von folgendem Regressionsmodell berücksichtig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88D5-A043-4D3B-9A73-B38936F2C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E68F-EDA5-4FEA-A9EB-CBF61ADC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B149-F3F4-4A32-8293-E509BB092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2C69-844E-4242-86AE-BD33333A0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C250-EBC5-439A-8808-04CFAF9E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B3D7-71F8-4C00-9EC3-B8A65BD4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60D9-A19B-44F3-93E0-A116C0AB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1B20-175F-4375-A591-28C77330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6174-72A9-4D8A-9155-B0516C23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17D4-D251-4C41-B69B-0A9BF0E2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39EC-9E15-4CC8-A035-F52C083C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3A3E-77C1-4B61-8375-C536184B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1966-2469-42BC-8D77-96A49E726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wmf"/><Relationship Id="rId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9.wmf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4.wmf"/><Relationship Id="rId1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9.wmf"/><Relationship Id="rId1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5.wmf"/><Relationship Id="rId1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7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0.wmf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9.wmf"/><Relationship Id="rId2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8.wmf"/><Relationship Id="rId2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5.wmf"/><Relationship Id="rId1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1.wmf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9.wmf"/><Relationship Id="rId1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1.wmf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7.wmf"/><Relationship Id="rId1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33.wmf"/><Relationship Id="rId19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0.wmf"/><Relationship Id="rId1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5.wmf"/><Relationship Id="rId1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6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1.wmf"/><Relationship Id="rId1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6.wmf"/><Relationship Id="rId1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1.wmf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0.wmf"/><Relationship Id="rId1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0.wmf"/><Relationship Id="rId1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5.wmf"/><Relationship Id="rId1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1.wmf"/><Relationship Id="rId17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5.wmf"/><Relationship Id="rId9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0.wmf"/><Relationship Id="rId1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gewählte Kapitel der Regressionsanaly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imax- Schätz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ristian Glowiszyn &amp; Dominik Ba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undlage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lineares Regressionsmodell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16760" cy="4329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ätzerklass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leinste- Quadrate- Schät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 Multikollinearit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dge- Schätz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runken- Schätz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200400" y="3886200"/>
          <a:ext cx="2044800" cy="43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3886200"/>
                    <a:ext cx="20448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038480" y="5105520"/>
          <a:ext cx="245124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5105520"/>
                    <a:ext cx="2451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038480" y="5715000"/>
          <a:ext cx="298476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38480" y="5715000"/>
                    <a:ext cx="2984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619280" y="2590920"/>
          <a:ext cx="590544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19280" y="2590920"/>
                    <a:ext cx="5905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138B-91E2-4832-9BCD-BB5DE80D7F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undlage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lineares Regressionsmodell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16760" cy="4329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i Vorinformation über     der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tringierter Kleinste- Quadrate- Schät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419720" y="2057400"/>
          <a:ext cx="203040" cy="3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057400"/>
                    <a:ext cx="2030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828800" y="5105520"/>
          <a:ext cx="482616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5105520"/>
                    <a:ext cx="48261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3505320" y="2819520"/>
          <a:ext cx="812520" cy="34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2819520"/>
                    <a:ext cx="81252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362320" y="3429000"/>
          <a:ext cx="3314520" cy="469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2320" y="3429000"/>
                    <a:ext cx="331452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1B7C-8C12-4E62-A0BE-C5505EB9CB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nimax- Schätze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Das Prinzip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16760" cy="4329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stische Entscheidungstheorie wird auf das Schätzproblem angewand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trachte Verlustfunktion und erwarteter Verlu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wichtetes Risiko mit Matri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743200" y="3505320"/>
          <a:ext cx="266688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505320"/>
                    <a:ext cx="26668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2743200" y="4038480"/>
          <a:ext cx="302256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4038480"/>
                    <a:ext cx="30225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5181480" y="4724280"/>
          <a:ext cx="1219320" cy="34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4724280"/>
                    <a:ext cx="12193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1523880" y="5334120"/>
          <a:ext cx="7061400" cy="86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5334120"/>
                    <a:ext cx="70614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4C2A-C19A-4F22-B565-87A7E086D1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nimax- Schätze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Das Prinzip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16760" cy="4329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x- Schätz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 ex. keine expliziten Lösungen für Minimierungs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wende Verfahren, die approx. Lösungen lief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733920" y="2133720"/>
          <a:ext cx="368280" cy="43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2133720"/>
                    <a:ext cx="3682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2209680" y="2895480"/>
          <a:ext cx="3581640" cy="63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895480"/>
                    <a:ext cx="358164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2209680" y="3809880"/>
          <a:ext cx="4114800" cy="63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3809880"/>
                    <a:ext cx="411480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1219320" y="5499000"/>
          <a:ext cx="330120" cy="21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9320" y="5499000"/>
                    <a:ext cx="33012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4E3B-6C7D-41F8-90A4-83097C27A8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nimax- Schätze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ter Ellipsoidrestrik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7916760" cy="4329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nz            wird als bekannt vorausgesetzt und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rachte supremale gewichtete Risik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286000" y="2133720"/>
          <a:ext cx="723960" cy="29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133720"/>
                    <a:ext cx="72396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2514600" y="2971800"/>
          <a:ext cx="354348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2971800"/>
                    <a:ext cx="35434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990720" y="4952880"/>
          <a:ext cx="7162560" cy="129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4952880"/>
                    <a:ext cx="71625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1333440" y="4267080"/>
          <a:ext cx="1638360" cy="571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33440" y="4267080"/>
                    <a:ext cx="163836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1143000" y="2514600"/>
          <a:ext cx="888840" cy="34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43000" y="2514600"/>
                    <a:ext cx="8888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ADEC-3E35-4BF7-B303-9242E8EDC3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nimax- Schätze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ter Ellipsoidrestrik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16760" cy="4329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bei 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 Q(C) symmetrisch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chätzung des gewichteten Risik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362320" y="2286000"/>
          <a:ext cx="4216320" cy="3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286000"/>
                    <a:ext cx="421632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2362320" y="4876920"/>
          <a:ext cx="514332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4876920"/>
                    <a:ext cx="51433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762120" y="5791320"/>
          <a:ext cx="2654280" cy="393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5791320"/>
                    <a:ext cx="265428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590920" y="3340080"/>
          <a:ext cx="3606840" cy="77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90920" y="3340080"/>
                    <a:ext cx="360684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5F36-34EF-4CD4-9E98-52DC76758B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nimax- Schätze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ter Ellipsoidrestrik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16760" cy="4329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gibt sich das max. gewichtete Risiko z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erung des max. gewichteten Risikos bzg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048120" y="2590920"/>
          <a:ext cx="1955520" cy="39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590920"/>
                    <a:ext cx="195552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752480" y="4114800"/>
          <a:ext cx="539748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114800"/>
                    <a:ext cx="53974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762120" y="5181480"/>
          <a:ext cx="330120" cy="21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5181480"/>
                    <a:ext cx="33012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7772400" y="5118120"/>
          <a:ext cx="762120" cy="29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72400" y="5118120"/>
                    <a:ext cx="76212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3352680" y="5575320"/>
          <a:ext cx="2070360" cy="520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52680" y="5575320"/>
                    <a:ext cx="20703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94D7-93AE-40A3-97BE-3BC98FF8F2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nimax- Schätze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ter Ellipsoidrestrik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16760" cy="4329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te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ücksichtigung von Parameterraumrestrik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ales Risiko einer Fehlentscheidung wird minim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chte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 existieren oft keine expliziten Lösungen für das Minimierungsproblem (Berechnung    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7391520" y="5334120"/>
          <a:ext cx="546120" cy="29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5334120"/>
                    <a:ext cx="54612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33D6-8F45-4915-BFD2-796967562E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ezielle Minimax- Schätzer unter Ellipsoidrestriktionen (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16760" cy="4329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eiche Intervallrestri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mit lässt sich die Restriktion schreiben 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imax- Schät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600200" y="2743200"/>
          <a:ext cx="576576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743200"/>
                    <a:ext cx="57657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447920" y="4191120"/>
          <a:ext cx="228600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4191120"/>
                    <a:ext cx="22860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2895480" y="5486400"/>
          <a:ext cx="2819520" cy="78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5486400"/>
                    <a:ext cx="281952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254480" y="4267080"/>
          <a:ext cx="3746520" cy="38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54480" y="4267080"/>
                    <a:ext cx="37465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90FB-2079-4C81-B881-4A569D2C37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ezielle Minimax- Schätzer unter Ellipsoidrestriktionen (b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16760" cy="4329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 schätzen: Linearkomb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k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. Eigenw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762120" y="2666880"/>
          <a:ext cx="370836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66880"/>
                    <a:ext cx="370836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914400" y="3886200"/>
          <a:ext cx="712476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886200"/>
                    <a:ext cx="71247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990720" y="4572000"/>
          <a:ext cx="4546440" cy="39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4572000"/>
                    <a:ext cx="454644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2895480" y="5715000"/>
          <a:ext cx="2070360" cy="393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95480" y="5715000"/>
                    <a:ext cx="207036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5156280" y="2044800"/>
          <a:ext cx="406440" cy="393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56280" y="2044800"/>
                    <a:ext cx="40644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EF07-2F85-4414-A7A3-D2CCB2AABEC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nimax- Schät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16760" cy="4329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nleitung und Mot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nleitende Beispi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ax- Schät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s Prinz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x- Schätzer unter Ellipsoidrestri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zialfälle und approximative Lösu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elle Ellipsoidrestri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mbination von Ellipsoid- und linearen Restrik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turverzeichn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ED62-F118-492B-8754-4E224EB00D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ezielle Minimax- Schätzer unter Ellipsoidrestriktionen (b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16760" cy="4329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imax- Schätz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ü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ür T =        : Gestalt eines Ridge- Schätz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962520" y="2057400"/>
          <a:ext cx="876240" cy="3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057400"/>
                    <a:ext cx="8762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2743200" y="2895480"/>
          <a:ext cx="294624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29462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1523880" y="4495680"/>
          <a:ext cx="2273400" cy="34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4495680"/>
                    <a:ext cx="227340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1727280" y="5118120"/>
          <a:ext cx="5207040" cy="444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27280" y="5118120"/>
                    <a:ext cx="52070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828800" y="3733920"/>
          <a:ext cx="558720" cy="736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28800" y="3733920"/>
                    <a:ext cx="5587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2FE0-4DE3-4E11-8F4D-5EA7F179269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pproximative Lösungen unter Ellipsoidrestriktion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16760" cy="4329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erung problematisch, da abhängig v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chätzung des maximalen Eigenwer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e Minimierungsprobl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429000" y="2209680"/>
          <a:ext cx="207000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209680"/>
                    <a:ext cx="207000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6997680" y="2933640"/>
          <a:ext cx="1384200" cy="3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97680" y="2933640"/>
                    <a:ext cx="138420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1981080" y="4191120"/>
          <a:ext cx="4699080" cy="46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4191120"/>
                    <a:ext cx="469908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2133720" y="5105520"/>
          <a:ext cx="3657600" cy="53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33720" y="5105520"/>
                    <a:ext cx="365760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2133720" y="5715000"/>
          <a:ext cx="3987720" cy="533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33720" y="5715000"/>
                    <a:ext cx="39877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6B1E-BF74-468E-86DA-FDA4CD40F0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pproximative Lösungen unter Ellipsoidrestriktion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16760" cy="4329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ösung für Minimierungsproblem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bhängig von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rer / unterer Quasi- Minimax- Schät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514600" y="2502000"/>
          <a:ext cx="3873600" cy="39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502000"/>
                    <a:ext cx="387360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2666880" y="3886200"/>
          <a:ext cx="3314880" cy="3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886200"/>
                    <a:ext cx="33148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2666880" y="4419720"/>
          <a:ext cx="3479760" cy="393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4419720"/>
                    <a:ext cx="347976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2743200" y="5423040"/>
          <a:ext cx="2895480" cy="44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5423040"/>
                    <a:ext cx="289548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2743200" y="5867280"/>
          <a:ext cx="2844720" cy="444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5867280"/>
                    <a:ext cx="28447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2514600" y="2971800"/>
          <a:ext cx="4000680" cy="393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14600" y="2971800"/>
                    <a:ext cx="40006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7CCC-081B-4E9E-B53F-88B482A778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pproximative Lösungen unter Ellipsoidrestriktion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16760" cy="4329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rer Quasi- Minimax- Schätzer identisch mit Schätzer        aus Spezialfall 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erer Quasi- Minimax- Schätzer hat die Gestalt eines Shrunken- Schätzers, f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te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. Schätzer sind geschlossen darstell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önnen geringeren MSE als andere Schätzer aufwei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438280" y="2362320"/>
          <a:ext cx="470160" cy="43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362320"/>
                    <a:ext cx="4701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5638680" y="3200400"/>
          <a:ext cx="1968480" cy="33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200400"/>
                    <a:ext cx="196848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577B-8240-45D8-A497-FDC648BD45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ielle Ellipsoidrestrik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16760" cy="4329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ls nicht für alle Parameterkomponenten von  Intervallrestriktionen vorlie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lipsoidrestrik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ist n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mponenten ohne Vorinformation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Q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4191120" y="3200400"/>
          <a:ext cx="353052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200400"/>
                    <a:ext cx="35305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1219320" y="5105520"/>
          <a:ext cx="330120" cy="21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5105520"/>
                    <a:ext cx="33012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7416720" y="2057400"/>
          <a:ext cx="203400" cy="34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16720" y="2057400"/>
                    <a:ext cx="20340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F389-FF97-4F78-9FE0-CB6AEFDE02A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ielle Ellipsoidrestrik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16760" cy="4329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ngierter Parametervek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elle Ellipsoidrestrik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d mit                     um     ergän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n äquivalent zu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971640" y="5157720"/>
          <a:ext cx="46980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5157720"/>
                    <a:ext cx="4698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4826160" y="4267080"/>
          <a:ext cx="279360" cy="3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26160" y="4267080"/>
                    <a:ext cx="2793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977760" y="4267080"/>
          <a:ext cx="470160" cy="27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7760" y="4267080"/>
                    <a:ext cx="47016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1434960" y="5715000"/>
          <a:ext cx="5803920" cy="406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34960" y="5715000"/>
                    <a:ext cx="580392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1143000" y="2044800"/>
          <a:ext cx="1498680" cy="393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43000" y="2044800"/>
                    <a:ext cx="149868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2603520" y="4013280"/>
          <a:ext cx="1739880" cy="863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03520" y="4013280"/>
                    <a:ext cx="17398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2819520" y="2057400"/>
          <a:ext cx="546120" cy="34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19520" y="2057400"/>
                    <a:ext cx="5461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1289160" y="2921040"/>
          <a:ext cx="6565680" cy="507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89160" y="2921040"/>
                    <a:ext cx="65656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1295280" y="3492360"/>
          <a:ext cx="1981440" cy="393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95280" y="3492360"/>
                    <a:ext cx="198144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4178160" y="5054760"/>
          <a:ext cx="3746520" cy="507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178160" y="5054760"/>
                    <a:ext cx="37465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A2FC-ED1C-41B3-A7F6-596F2E59388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ielle Ellipsoidrestrik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16760" cy="4329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kan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ale gewichtete Risiko gegeben dur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066680" y="2133720"/>
          <a:ext cx="279360" cy="34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133720"/>
                    <a:ext cx="2793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1066680" y="2679840"/>
          <a:ext cx="330480" cy="21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2679840"/>
                    <a:ext cx="33048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1905120" y="3098880"/>
          <a:ext cx="5346720" cy="55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3098880"/>
                    <a:ext cx="534672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2666880" y="3886200"/>
          <a:ext cx="3645000" cy="406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66880" y="3886200"/>
                    <a:ext cx="36450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2819520" y="4521240"/>
          <a:ext cx="3022560" cy="431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19520" y="4521240"/>
                    <a:ext cx="30225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774720" y="4572000"/>
          <a:ext cx="1511280" cy="355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74720" y="4572000"/>
                    <a:ext cx="15112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787320" y="5130720"/>
          <a:ext cx="1498680" cy="355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87320" y="5130720"/>
                    <a:ext cx="14986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2819520" y="5067360"/>
          <a:ext cx="1574640" cy="419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819520" y="5067360"/>
                    <a:ext cx="15746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838080" y="5676840"/>
          <a:ext cx="5867640" cy="343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38080" y="5676840"/>
                    <a:ext cx="58676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6858000" y="5600880"/>
          <a:ext cx="1536840" cy="419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858000" y="5600880"/>
                    <a:ext cx="15368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F882-9EF6-421B-B7F8-6787336B9FB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ielle Ellipsoidrestrik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16760" cy="4329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istens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bekan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KQ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d in       eingesetzt; neue Schätzer besitzt nicht die selben Eigenschaften wie      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ch für Rg(H) = 1 ist es kein exakter M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enkler et al. (1987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Q-Schätzer wird durch den neu erhaltenen Schätzwert ersetzt; Verfahren wird solange wiederholt, bis ausreichende Konvergenz erreicht 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2387520" y="2057400"/>
          <a:ext cx="279360" cy="3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7520" y="2057400"/>
                    <a:ext cx="2793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4572000" y="2133720"/>
          <a:ext cx="330120" cy="21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133720"/>
                    <a:ext cx="33012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2044800" y="2438280"/>
          <a:ext cx="469800" cy="419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44800" y="2438280"/>
                    <a:ext cx="46980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4635360" y="2781360"/>
          <a:ext cx="470160" cy="41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35360" y="2781360"/>
                    <a:ext cx="4701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685800" y="4191120"/>
          <a:ext cx="330120" cy="22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5800" y="4191120"/>
                    <a:ext cx="3301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32BB-59F2-4538-84DD-8F5928E5DF3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ielle Ellipsoidrestriktio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äsvirta (198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16760" cy="4329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Vorinform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artielle Ellipsoidrestrik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atrix W wird ergänzt zu                      mit vollen Ra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2362320" y="2514600"/>
          <a:ext cx="353052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35305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685800" y="4419720"/>
          <a:ext cx="783576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419720"/>
                    <a:ext cx="78357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7162920" y="2590920"/>
          <a:ext cx="660240" cy="27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62920" y="2590920"/>
                    <a:ext cx="66024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6019920" y="2590920"/>
          <a:ext cx="965160" cy="330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2590920"/>
                    <a:ext cx="9651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428840" y="3225960"/>
          <a:ext cx="6286320" cy="406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28840" y="3225960"/>
                    <a:ext cx="6286320" cy="40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4368960" y="5334120"/>
          <a:ext cx="1650960" cy="914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68960" y="5334120"/>
                    <a:ext cx="16509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53AB-2F69-4B36-B416-5B6296DB6C6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ielle Ellipsoidrestriktio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äsvirta (1989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16760" cy="4329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urch Reparametrisierung von                kann folgende Gleichung erhalten wer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dere Schreibweise 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5245200" y="2057400"/>
          <a:ext cx="1307880" cy="35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5200" y="2057400"/>
                    <a:ext cx="13078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3657600" y="2971800"/>
          <a:ext cx="1295280" cy="35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2971800"/>
                    <a:ext cx="12952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1143000" y="3441600"/>
          <a:ext cx="4635360" cy="97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3441600"/>
                    <a:ext cx="4635360" cy="9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4533840" y="4648320"/>
          <a:ext cx="2476440" cy="355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33840" y="4648320"/>
                    <a:ext cx="247644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2895480" y="5943600"/>
          <a:ext cx="2806920" cy="355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95480" y="5943600"/>
                    <a:ext cx="28069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1066680" y="5460840"/>
          <a:ext cx="7315200" cy="406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66680" y="5460840"/>
                    <a:ext cx="73152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8CF0-5616-42E4-925D-5D952F7C2C0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7916760" cy="4329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 sind Vorinformation über unbekannten Parameter vorha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schränkung des Parameterraums mög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x- Schätzer berücksichtigen solche Vorinform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x- Method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ätzproblem als  Entscheidungsproblem auffassen und Entscheidung unter Einbeziehung der gegebenen Nebenbedingungen tre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nleitung und Motiv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026A-E42E-47AD-A3E9-A84E767B1F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ielle Ellipsoidrestriktio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äsvirta (198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16760" cy="4329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ximative Minimax- Schätzer für    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ues Mod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6172200" y="2095560"/>
          <a:ext cx="291960" cy="2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2095560"/>
                    <a:ext cx="2919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1523880" y="2590920"/>
          <a:ext cx="617220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2590920"/>
                    <a:ext cx="61722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1523880" y="3276720"/>
          <a:ext cx="613440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3276720"/>
                    <a:ext cx="61344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3060720" y="4013280"/>
          <a:ext cx="2577960" cy="406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60720" y="4013280"/>
                    <a:ext cx="257796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37288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2629080" y="4622760"/>
          <a:ext cx="3314520" cy="406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29080" y="4622760"/>
                    <a:ext cx="331452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6095880" y="4076640"/>
          <a:ext cx="1638360" cy="343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5880" y="4076640"/>
                    <a:ext cx="16383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"/>
          <p:cNvGraphicFramePr/>
          <p:nvPr/>
        </p:nvGraphicFramePr>
        <p:xfrm>
          <a:off x="3581280" y="5778360"/>
          <a:ext cx="1473480" cy="393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81280" y="5778360"/>
                    <a:ext cx="14734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"/>
          <p:cNvGraphicFramePr/>
          <p:nvPr/>
        </p:nvGraphicFramePr>
        <p:xfrm>
          <a:off x="1079640" y="5257800"/>
          <a:ext cx="6984720" cy="355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079640" y="5257800"/>
                    <a:ext cx="69847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FBFD-FB3E-494D-B7AC-FDCB18A6EF7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ielle Ellipsoidrestrik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16760" cy="4329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gestellten Schätzer (Trenkler et al, Teräsvirta) schätzen den unrestringierten Teil des Parameters  mit Hilfe der KQ-Meth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halb liefern beide Verfahren nur approximative Lösungen für den Minimax- Schät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685800" y="3733920"/>
          <a:ext cx="330120" cy="21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733920"/>
                    <a:ext cx="33012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8026560" y="2438280"/>
          <a:ext cx="203040" cy="3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26560" y="2438280"/>
                    <a:ext cx="2030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1263-BB1C-4416-88BC-E64AED044E0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Kombination von Ellipsoid- und linearen Restriktion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16760" cy="4329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 liegen Ellipsoid- wie auch lineare Restriktionen 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mbination zur Schätzung v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uristischer Ansatz 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mittlung analog zum 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219320" y="3949560"/>
          <a:ext cx="1549440" cy="3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949560"/>
                    <a:ext cx="154944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3200400" y="3911760"/>
          <a:ext cx="232416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3911760"/>
                    <a:ext cx="23241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6324480" y="3962520"/>
          <a:ext cx="889200" cy="34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3962520"/>
                    <a:ext cx="88920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1981080" y="5257800"/>
          <a:ext cx="4800600" cy="41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5257800"/>
                    <a:ext cx="48006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1295280" y="2603520"/>
          <a:ext cx="330480" cy="21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95280" y="2603520"/>
                    <a:ext cx="330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6121440" y="2514600"/>
          <a:ext cx="203040" cy="343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21440" y="2514600"/>
                    <a:ext cx="2030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B0EF-D12C-4F70-A668-FE5F474321B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Kombination von Ellipsoid- und linearen Restriktion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16760" cy="4329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schränkung durch beide Restrik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wende informativere zur Einschränk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schränkungen liegen nicht in benötigter Form 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dung Analog zum R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setze    durch          und             du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uristischer restringierter oberer Minimax- Schätz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uristischer restring. unterer Minimax- Schätz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1219320" y="2514600"/>
          <a:ext cx="33012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14600"/>
                    <a:ext cx="33012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2438280" y="3962520"/>
          <a:ext cx="20340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3962520"/>
                    <a:ext cx="2034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"/>
          <p:cNvGraphicFramePr/>
          <p:nvPr/>
        </p:nvGraphicFramePr>
        <p:xfrm>
          <a:off x="3352680" y="3962520"/>
          <a:ext cx="609840" cy="41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3962520"/>
                    <a:ext cx="6098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4508640" y="4025880"/>
          <a:ext cx="825480" cy="393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08640" y="4025880"/>
                    <a:ext cx="8254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6019920" y="4025880"/>
          <a:ext cx="2628720" cy="393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19920" y="4025880"/>
                    <a:ext cx="262872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"/>
          <p:cNvGraphicFramePr/>
          <p:nvPr/>
        </p:nvGraphicFramePr>
        <p:xfrm>
          <a:off x="1447920" y="4495680"/>
          <a:ext cx="330120" cy="228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47920" y="4495680"/>
                    <a:ext cx="3301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1447920" y="5486400"/>
          <a:ext cx="330120" cy="228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47920" y="5486400"/>
                    <a:ext cx="3301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2324160" y="4876920"/>
          <a:ext cx="4991040" cy="419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324160" y="4876920"/>
                    <a:ext cx="49910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"/>
          <p:cNvGraphicFramePr/>
          <p:nvPr/>
        </p:nvGraphicFramePr>
        <p:xfrm>
          <a:off x="2286000" y="5829480"/>
          <a:ext cx="4876920" cy="419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286000" y="5829480"/>
                    <a:ext cx="48769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9A65-DBA4-4BBC-ADBC-DDE2637CA38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Kombination von Ellipsoid- und linearen Restriktion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16760" cy="4329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uristischer Ansatz 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v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2590920" y="2590920"/>
          <a:ext cx="353052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590920"/>
                    <a:ext cx="35305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3200400" y="3352680"/>
          <a:ext cx="812880" cy="3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3352680"/>
                    <a:ext cx="8128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2514600" y="3886200"/>
          <a:ext cx="1168560" cy="86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3886200"/>
                    <a:ext cx="11685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4343400" y="3886200"/>
          <a:ext cx="1638360" cy="86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43400" y="3886200"/>
                    <a:ext cx="16383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4876920" y="5486400"/>
          <a:ext cx="1218960" cy="34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76920" y="5486400"/>
                    <a:ext cx="12189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6108840" y="5486400"/>
          <a:ext cx="1282680" cy="343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08840" y="5486400"/>
                    <a:ext cx="1282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1778040" y="4902120"/>
          <a:ext cx="5384880" cy="507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778040" y="4902120"/>
                    <a:ext cx="53848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A287-86B8-45A4-96DC-2586CEB2E33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Kombination von Ellipsoid- und linearen Restriktion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16760" cy="4329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erung des maximalen Risik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ösu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685800" y="2666880"/>
          <a:ext cx="8026560" cy="10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66880"/>
                    <a:ext cx="802656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0" name=""/>
          <p:cNvGraphicFramePr/>
          <p:nvPr/>
        </p:nvGraphicFramePr>
        <p:xfrm>
          <a:off x="2286000" y="4419720"/>
          <a:ext cx="3784680" cy="39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4419720"/>
                    <a:ext cx="378468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2286000" y="5105520"/>
          <a:ext cx="3924360" cy="393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5105520"/>
                    <a:ext cx="392436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4140360" y="5715000"/>
          <a:ext cx="1955520" cy="444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0360" y="5715000"/>
                    <a:ext cx="19555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6591240" y="5715000"/>
          <a:ext cx="1104840" cy="393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91240" y="5715000"/>
                    <a:ext cx="110484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707A-FC85-463A-8CE0-4011ADBDF8B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Kombination von Ellipsoid- und linearen Restriktion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16760" cy="4329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weiterter restring. oberer Minimax- Schät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der leere noch einpunktige Schnittmenge hat Auswirkungen auf Schätzverfa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cht sinnvolle Ergebni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2057400" y="2971800"/>
          <a:ext cx="4991040" cy="43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971800"/>
                    <a:ext cx="49910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DE72-14F4-4AA1-826D-7EBA806F8E0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Kombination von Ellipsoid- und linearen Restriktion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16760" cy="4329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si- Minimax- Ansatz(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mbination mit             wobe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3581280" y="3429000"/>
          <a:ext cx="838440" cy="3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3429000"/>
                    <a:ext cx="838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2362320" y="3962520"/>
          <a:ext cx="353052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3962520"/>
                    <a:ext cx="35305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8" name=""/>
          <p:cNvGraphicFramePr/>
          <p:nvPr/>
        </p:nvGraphicFramePr>
        <p:xfrm>
          <a:off x="3352680" y="4686480"/>
          <a:ext cx="927360" cy="34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4686480"/>
                    <a:ext cx="9273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0" name=""/>
          <p:cNvGraphicFramePr/>
          <p:nvPr/>
        </p:nvGraphicFramePr>
        <p:xfrm>
          <a:off x="5308560" y="4686480"/>
          <a:ext cx="1244520" cy="34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08560" y="4686480"/>
                    <a:ext cx="124452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"/>
          <p:cNvGraphicFramePr/>
          <p:nvPr/>
        </p:nvGraphicFramePr>
        <p:xfrm>
          <a:off x="990720" y="5334120"/>
          <a:ext cx="7480080" cy="50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90720" y="5334120"/>
                    <a:ext cx="74800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1676520" y="2666880"/>
          <a:ext cx="5676840" cy="533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2666880"/>
                    <a:ext cx="56768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44E5-9309-41B0-920C-EAE501CD0FC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Kombination von Ellipsoid- und linearen Restriktion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16760" cy="4329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durch lin. Restriktion darstellbar d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t Hilfe von                                       und s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durch Abschätzung des gewichteten Risiko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2514600" y="1981080"/>
          <a:ext cx="345456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981080"/>
                    <a:ext cx="34545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"/>
          <p:cNvGraphicFramePr/>
          <p:nvPr/>
        </p:nvGraphicFramePr>
        <p:xfrm>
          <a:off x="6680160" y="2438280"/>
          <a:ext cx="1549440" cy="3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80160" y="2438280"/>
                    <a:ext cx="154944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"/>
          <p:cNvGraphicFramePr/>
          <p:nvPr/>
        </p:nvGraphicFramePr>
        <p:xfrm>
          <a:off x="1905120" y="5181480"/>
          <a:ext cx="4825800" cy="96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5181480"/>
                    <a:ext cx="482580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4" name=""/>
          <p:cNvGraphicFramePr/>
          <p:nvPr/>
        </p:nvGraphicFramePr>
        <p:xfrm>
          <a:off x="2895480" y="3301920"/>
          <a:ext cx="3124440" cy="50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95480" y="3301920"/>
                    <a:ext cx="31244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"/>
          <p:cNvGraphicFramePr/>
          <p:nvPr/>
        </p:nvGraphicFramePr>
        <p:xfrm>
          <a:off x="2349360" y="3962520"/>
          <a:ext cx="4445280" cy="495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49360" y="3962520"/>
                    <a:ext cx="44452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BDD5-6D0D-40ED-8681-1649C4C14D5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Kombination von Ellipsoid- und linearen Restriktion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16760" cy="4329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 Vek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iert das gewichtete Risik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erung bezüglic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762120" y="1981080"/>
          <a:ext cx="641340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641340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2819520" y="3276720"/>
          <a:ext cx="1968480" cy="39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276720"/>
                    <a:ext cx="196848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"/>
          <p:cNvGraphicFramePr/>
          <p:nvPr/>
        </p:nvGraphicFramePr>
        <p:xfrm>
          <a:off x="4495680" y="4686480"/>
          <a:ext cx="1371600" cy="34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4686480"/>
                    <a:ext cx="137160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"/>
          <p:cNvGraphicFramePr/>
          <p:nvPr/>
        </p:nvGraphicFramePr>
        <p:xfrm>
          <a:off x="838080" y="4724280"/>
          <a:ext cx="330480" cy="21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4724280"/>
                    <a:ext cx="330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1079640" y="5283360"/>
          <a:ext cx="6984720" cy="583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79640" y="5283360"/>
                    <a:ext cx="6984720" cy="58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EBFF-649D-4332-B934-849BEEA7845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nleitende Beispiel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16760" cy="4329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bettung von Intervallrestriktionen in Ellipsoi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gehöriger Ellips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imme           so, dass gi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581280" y="2743200"/>
          <a:ext cx="3797280" cy="3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2743200"/>
                    <a:ext cx="37972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838080" y="4495680"/>
          <a:ext cx="7658280" cy="41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495680"/>
                    <a:ext cx="765828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514600" y="5168880"/>
          <a:ext cx="863640" cy="31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5168880"/>
                    <a:ext cx="86364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1168560" y="5448240"/>
          <a:ext cx="6806880" cy="876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68560" y="5448240"/>
                    <a:ext cx="680688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2438280" y="3835440"/>
          <a:ext cx="4267440" cy="50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38280" y="3835440"/>
                    <a:ext cx="42674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6945-B563-4B85-8D4C-843D57EC5B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Kombination von Ellipsoid- und linearen Restriktion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16760" cy="4329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ös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n H unabhängige Lös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ür Rg(H) = 1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kter Minimax- Schät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ür Rg(H)    1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erer Quasi- Minimax- Schät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2286000" y="2349360"/>
          <a:ext cx="4952880" cy="3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349360"/>
                    <a:ext cx="49528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2133720" y="3429000"/>
          <a:ext cx="4457520" cy="3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429000"/>
                    <a:ext cx="445752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"/>
          <p:cNvGraphicFramePr/>
          <p:nvPr/>
        </p:nvGraphicFramePr>
        <p:xfrm>
          <a:off x="1143000" y="3898800"/>
          <a:ext cx="2705040" cy="44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3898800"/>
                    <a:ext cx="27050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2438280" y="5181480"/>
          <a:ext cx="216000" cy="21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5181480"/>
                    <a:ext cx="21600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2133720" y="5715000"/>
          <a:ext cx="3581280" cy="431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33720" y="5715000"/>
                    <a:ext cx="35812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"/>
          <p:cNvGraphicFramePr/>
          <p:nvPr/>
        </p:nvGraphicFramePr>
        <p:xfrm>
          <a:off x="3022560" y="5194440"/>
          <a:ext cx="330120" cy="215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22560" y="5194440"/>
                    <a:ext cx="33012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3048120" y="4800600"/>
          <a:ext cx="330120" cy="216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48120" y="4800600"/>
                    <a:ext cx="33012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AB3B-D810-4543-9F29-0493E736BDB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Kombination von Ellipsoid- und linearen Restriktion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16760" cy="4329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echnung unterer- Quasi- Minimax- Schät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. Risiko noch weiter nach unten abschät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terer Quasi- Minimax- Schät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1447920" y="2590920"/>
          <a:ext cx="330120" cy="21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590920"/>
                    <a:ext cx="33012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"/>
          <p:cNvGraphicFramePr/>
          <p:nvPr/>
        </p:nvGraphicFramePr>
        <p:xfrm>
          <a:off x="1981080" y="3124080"/>
          <a:ext cx="5143680" cy="4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124080"/>
                    <a:ext cx="514368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2743200" y="3962520"/>
          <a:ext cx="3301920" cy="48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3962520"/>
                    <a:ext cx="33019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2514600" y="5334120"/>
          <a:ext cx="3657600" cy="43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14600" y="5334120"/>
                    <a:ext cx="36576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1600200" y="5943600"/>
          <a:ext cx="5816520" cy="393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00200" y="5943600"/>
                    <a:ext cx="581652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A6B1-CBEA-49D3-A5C6-81A839B51C4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Kombination von Ellipsoid- und linearen Restriktion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16760" cy="4329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kter Minimax- Schätzer, wenn Rg(R) = p –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rer = unterer Quasi- Minimax- Schätzer 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x- Schätzer            und              gleich, wenn Bedingung                aus         erfül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1143000" y="2590920"/>
          <a:ext cx="330120" cy="21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590920"/>
                    <a:ext cx="33012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2743200" y="3048120"/>
          <a:ext cx="283212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3048120"/>
                    <a:ext cx="28321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3809880" y="4610160"/>
          <a:ext cx="723960" cy="41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9880" y="4610160"/>
                    <a:ext cx="7239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6" name=""/>
          <p:cNvGraphicFramePr/>
          <p:nvPr/>
        </p:nvGraphicFramePr>
        <p:xfrm>
          <a:off x="5334120" y="4610160"/>
          <a:ext cx="838080" cy="41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4610160"/>
                    <a:ext cx="8380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8" name=""/>
          <p:cNvGraphicFramePr/>
          <p:nvPr/>
        </p:nvGraphicFramePr>
        <p:xfrm>
          <a:off x="2743200" y="5067360"/>
          <a:ext cx="1003320" cy="342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5067360"/>
                    <a:ext cx="100332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4521240" y="5041800"/>
          <a:ext cx="584280" cy="292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21240" y="5041800"/>
                    <a:ext cx="58428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F1CD-4AB0-4E3C-9358-018E0A85716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Kombination von Ellipsoid- und linearen Restriktion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16760" cy="4329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si- Minimax- Ansatz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wendet Restri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cht unbedingt glei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ge der Vorinform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4191120" y="2514600"/>
          <a:ext cx="888840" cy="3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2514600"/>
                    <a:ext cx="8888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1066680" y="2971800"/>
          <a:ext cx="304920" cy="29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2971800"/>
                    <a:ext cx="30492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4495680" y="2933640"/>
          <a:ext cx="317520" cy="34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2933640"/>
                    <a:ext cx="3175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4952880" y="2984400"/>
          <a:ext cx="330480" cy="21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2880" y="2984400"/>
                    <a:ext cx="330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"/>
          <p:cNvGraphicFramePr/>
          <p:nvPr/>
        </p:nvGraphicFramePr>
        <p:xfrm>
          <a:off x="5486400" y="2832120"/>
          <a:ext cx="2324160" cy="444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86400" y="2832120"/>
                    <a:ext cx="2324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"/>
          <p:cNvGraphicFramePr/>
          <p:nvPr/>
        </p:nvGraphicFramePr>
        <p:xfrm>
          <a:off x="1981080" y="3886200"/>
          <a:ext cx="5677200" cy="444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81080" y="3886200"/>
                    <a:ext cx="567720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"/>
          <p:cNvGraphicFramePr/>
          <p:nvPr/>
        </p:nvGraphicFramePr>
        <p:xfrm>
          <a:off x="1333440" y="4597560"/>
          <a:ext cx="4229280" cy="507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333440" y="4597560"/>
                    <a:ext cx="42292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"/>
          <p:cNvGraphicFramePr/>
          <p:nvPr/>
        </p:nvGraphicFramePr>
        <p:xfrm>
          <a:off x="1981080" y="5257800"/>
          <a:ext cx="454680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981080" y="5257800"/>
                    <a:ext cx="45468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CB3C-58EC-4941-9C8C-41D7CC766A8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Kombination von Ellipsoid- und linearen Restriktion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16760" cy="4329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wendige und hinreichende Bedingung fü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erung des max. gewichteten Risikos bzgl.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7238880" y="2070000"/>
          <a:ext cx="1219320" cy="29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2070000"/>
                    <a:ext cx="121932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4" name=""/>
          <p:cNvGraphicFramePr/>
          <p:nvPr/>
        </p:nvGraphicFramePr>
        <p:xfrm>
          <a:off x="2590920" y="2743200"/>
          <a:ext cx="3962160" cy="3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2743200"/>
                    <a:ext cx="396216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"/>
          <p:cNvGraphicFramePr/>
          <p:nvPr/>
        </p:nvGraphicFramePr>
        <p:xfrm>
          <a:off x="1041480" y="3365640"/>
          <a:ext cx="3911400" cy="44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1480" y="3365640"/>
                    <a:ext cx="391140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"/>
          <p:cNvGraphicFramePr/>
          <p:nvPr/>
        </p:nvGraphicFramePr>
        <p:xfrm>
          <a:off x="736560" y="4978440"/>
          <a:ext cx="7797960" cy="1041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6560" y="4978440"/>
                    <a:ext cx="779796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A601-EB07-496C-9E33-4EB54AF67D5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Kombination von Ellipsoid- und linearen Restriktion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16760" cy="4329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n H unabhängige Lösung des Min.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erer Quasi- Minimax- Schätz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terer Quasi- Minimax- Schät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1371600" y="2743200"/>
          <a:ext cx="6146640" cy="3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743200"/>
                    <a:ext cx="614664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1143000" y="3276720"/>
          <a:ext cx="2793960" cy="44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276720"/>
                    <a:ext cx="279396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2438280" y="4191120"/>
          <a:ext cx="33530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4191120"/>
                    <a:ext cx="33530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2362320" y="5181480"/>
          <a:ext cx="3429000" cy="43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2320" y="5181480"/>
                    <a:ext cx="342900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"/>
          <p:cNvGraphicFramePr/>
          <p:nvPr/>
        </p:nvGraphicFramePr>
        <p:xfrm>
          <a:off x="914400" y="5791320"/>
          <a:ext cx="7645320" cy="393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4400" y="5791320"/>
                    <a:ext cx="764532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C0BB-DBE3-4F50-B292-DF76CE51414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teraturverzeichn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16760" cy="4329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cker, L. (1998).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inimax- Schätzer für Schätz- und Testverfahren im linearen Regressionsmodell bei Vorinformatio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Herbert Utz Verlag, Münch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roß, J. (2003).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near Regressio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Springer, Berl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ahlecker, P. (1987).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priori Information und Minimax- Schätzung im linearen Regressionsmodell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Athenäum Verlag GmbH, Frankfurt a. 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räsvirta, T. (1989).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ing linear models with incomplete ellipsoidal restriction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Statistics 20, 187-1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enkler, G. et al. (1987).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erative improvements of a partial minimax estimator in regression analysis in Proceedings of the Second International Tampere Conference in Statistic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T. Pukkila und S. Puntanen, Tampere, 679-690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5BFF-C110-4C51-BCC0-96A05FF6C8E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nleitende Beispiel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16760" cy="4329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ösung für Optimierungs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it kann Vorinform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chrieben werden als Ellips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438280" y="2666880"/>
          <a:ext cx="4280040" cy="4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666880"/>
                    <a:ext cx="428004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143000" y="5334120"/>
          <a:ext cx="1460520" cy="29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5334120"/>
                    <a:ext cx="146052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828800" y="3733920"/>
          <a:ext cx="5423040" cy="44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3733920"/>
                    <a:ext cx="542304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2324160" y="4724280"/>
          <a:ext cx="4305240" cy="50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24160" y="4724280"/>
                    <a:ext cx="43052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CC22-B81F-424C-B9F5-907A75AE8D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nleitende Beispiel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16760" cy="4329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mbination von Intervallrestriktionen &amp; exakten linearen Restrik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bb- Douglas- Funk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er den Restrik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746520" y="3200400"/>
          <a:ext cx="173988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6520" y="3200400"/>
                    <a:ext cx="173988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2095560" y="4762440"/>
          <a:ext cx="4686120" cy="80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95560" y="4762440"/>
                    <a:ext cx="468612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4191120" y="2438280"/>
          <a:ext cx="838080" cy="34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1120" y="2438280"/>
                    <a:ext cx="8380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2913-4D0C-45DF-AAF3-49C262B892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nleitende Beispiel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16760" cy="4329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rrespondierendes Regressionsmod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590920" y="2590920"/>
          <a:ext cx="3530520" cy="35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590920"/>
                    <a:ext cx="353052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2133720" y="3949560"/>
          <a:ext cx="4356000" cy="237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949560"/>
                    <a:ext cx="435600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1168560" y="3200400"/>
          <a:ext cx="6146640" cy="3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68560" y="3200400"/>
                    <a:ext cx="614664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BC88-D0F8-4B3E-A575-5F28B06FD1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nleitende Beispiel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16760" cy="4329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information darstellbar 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676520" y="2819520"/>
          <a:ext cx="580392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819520"/>
                    <a:ext cx="58039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847E-AAF4-4CF4-9E93-4F805F82E9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undlage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lineares Regressionsmodell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16760" cy="4329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l in Matrixschreibwe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ahmen für das Regressionsmod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886200" y="2895480"/>
          <a:ext cx="1384200" cy="35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895480"/>
                    <a:ext cx="138420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1981080" y="3581280"/>
          <a:ext cx="5181840" cy="35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581280"/>
                    <a:ext cx="518184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143000" y="4724280"/>
          <a:ext cx="6985080" cy="1447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4724280"/>
                    <a:ext cx="69850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FD2D-020F-48CF-B817-956D4793E8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1:23:50Z</dcterms:created>
  <dc:creator>CG</dc:creator>
  <dc:description/>
  <dc:language>en-US</dc:language>
  <cp:lastModifiedBy>D.Batz</cp:lastModifiedBy>
  <dcterms:modified xsi:type="dcterms:W3CDTF">2009-01-14T22:57:54Z</dcterms:modified>
  <cp:revision>19</cp:revision>
  <dc:subject/>
  <dc:title>Ausgewählte Kapitel der Regressionsanalyse</dc:title>
</cp:coreProperties>
</file>